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AFE-970A-443E-884D-F90A5373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1DC-C244-487A-B987-EE7DADEA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893-0C43-43F5-9A17-C1720FE4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12B-63B0-4C35-8A55-5F1961A8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D651-DF88-4A89-B084-1493B408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D9E8-5DD1-4E11-ACA7-E011643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4BF6-2E93-49EB-9E2D-02CC4BD8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E2ED-550A-4EE3-9402-333D422C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B6C9-A82C-4EA2-8A79-65241AE1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04E3-97BF-4DCA-B5B4-10D50BF2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CA1F-6849-4732-B0FD-CCEA4440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833-7AE6-4F02-8246-DCEE98FF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2690-6BDF-44F4-88D2-133246D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4BE3-6F43-4E5A-8F7C-9FB524CC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E014-F5C1-44EE-B33F-03BE9B9A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EB79-AAF6-4444-B7CD-35744E27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C802-C5B5-4A87-9829-A16A98D8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911-5C04-4A15-958D-53026950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69A-B7C2-4988-BFB1-AF7555E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4FF-A027-4395-B74C-608C864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5AC-C0B6-4999-BFFD-2C2116C3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41B-01DB-4D8B-8204-F6BD33A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489-994C-45E8-A3F5-D92347A9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D71-A6D3-4136-A0A3-A0C7766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894-91C3-4AA4-BDAA-F87254A684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124-7713-4273-B0C6-A3FCEC7DC03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41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иагностика по теме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429000"/>
            <a:ext cx="6032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Кодирование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 3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Дорисуй бабочку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ыявить умения создавать графические изображения с опорой на частичный образе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ебёнку предлагается дорисовать вторую полови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Инструкция 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дорисуй бабочки так, чтобы её крылышки были одинаковы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ребёнок правильно без ошибок нарисовал вторую полови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ребенок допускал незначительные ошибки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ебёнок не справился с зад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 4</a:t>
            </a:r>
            <a:br>
              <a:rPr sz="32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Графический диктант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Цель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выявить умение ориентироваться в плоскости листа (клетка, строка), умение действовать по инструк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ребёнку предлагается построить изображения по словесной инструк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Инструк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оставь карандаш на самую верхнюю точку, и проводи только те линии, которые я буду диктоват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404640"/>
            <a:ext cx="7315200" cy="511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исунок в целом соответствует диктуем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рисунок частично соответствует диктуем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рисунок не соответствует диктуемом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 5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Цветочная полян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ыявить умения создавать изображения с использованием шабло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ебёнку с помощью шаблона необходимо   нарисовать цве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Инструкция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тебе необходимо «помочь пчелке украсить поляну цветами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ребёнок аккуратно, правильно нарисовал цветы по шабло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ребенок допускал незначительные ошибки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ебёнок не справился с зад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 Sans MS"/>
              </a:rPr>
              <a:t>1-1.6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низкий уровен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 Sans MS"/>
              </a:rPr>
              <a:t>1,7-2,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средний уровен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 Sans MS"/>
              </a:rPr>
              <a:t>2,4-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высокий уровен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Характеристика уровн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Низкий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уровень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графические навыки развиты очень слабо, размер элементов не соответствует эталону; характер линий неровный, дрожащий, двойной, исправленный; ребенок  неверно воспроизводит последовательность элементов, не доводит работу до конц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Средний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уровень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есть некоторые трудности графических движений, возможно незначительное  отклонение от строчки, нарушение симметр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Высокий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уровень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графические навыки сформированы достаточно хорошо; характер линий ровный; размер элементов соответствует эталону, ребенок правильно воспроизводит последовательность элемент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025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Выявить уровень    сформированности графических навыков (кодирование)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реализа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це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ми были определены следующие задачи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обрать диагностические задания по выявлению уровня сформированности графических навыков детей 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ровести диагностику для выявления уровня сформированности графических навыков детей 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роанализировать полученные результаты диагност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 1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Дорисуй дожди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78469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Цель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выявить умение правильно выполнять линии, соблюдение направления и одинакового расстояния между ни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ребёнку предлагается картина, где необходимо дорисовать дожд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Инструкция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остарайся нарисовать дождик ровными, прямыми линиями, старайся соблюдать одинаково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линии ровные, соблюдение направление и одинакового расстояниями между ни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линии не ровные, ребенок не соблюдает одинакового расстояния, изменяет направл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не справился с зад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Задание №2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Волшебная картин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ыявить умения осуществлять основные графические операции(соединение точек линиям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Содержание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ебёнку предлагается задание- соединить 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Инструкция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обведи точки не отрывая карандаш от листа бумаги и ты увидишь волшебную картину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1520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Оценка результат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3балл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ребёнок правильно без ошибок соединил 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2бал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ребенок допускал незначительные ошибки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ебёнок не справился с зад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8:17:30Z</dcterms:created>
  <dc:creator>Наташа</dc:creator>
  <dc:description/>
  <dc:language>en-US</dc:language>
  <cp:lastModifiedBy>Администратор</cp:lastModifiedBy>
  <dcterms:modified xsi:type="dcterms:W3CDTF">2010-03-09T10:02:10Z</dcterms:modified>
  <cp:revision>6</cp:revision>
  <dc:subject/>
  <dc:title>Диагностика по теме:</dc:title>
</cp:coreProperties>
</file>